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5.jpeg" ContentType="image/jpeg"/>
  <Override PartName="/ppt/media/image10.wmf" ContentType="image/x-wmf"/>
  <Override PartName="/ppt/media/image31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30.jpeg" ContentType="image/jpeg"/>
  <Override PartName="/ppt/media/image7.wmf" ContentType="image/x-wmf"/>
  <Override PartName="/ppt/media/image12.wmf" ContentType="image/x-wmf"/>
  <Override PartName="/ppt/media/image27.jpeg" ContentType="image/jpeg"/>
  <Override PartName="/ppt/media/image13.wmf" ContentType="image/x-wmf"/>
  <Override PartName="/ppt/media/image8.wmf" ContentType="image/x-wmf"/>
  <Override PartName="/ppt/media/image9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1.wmf" ContentType="image/x-wmf"/>
  <Override PartName="/ppt/media/image14.wmf" ContentType="image/x-wmf"/>
  <Override PartName="/ppt/media/image15.wmf" ContentType="image/x-wmf"/>
  <Override PartName="/ppt/media/image22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media/image21.png" ContentType="image/png"/>
  <Override PartName="/ppt/media/image1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3EC7-118F-40D9-8610-AC563F95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3819-C81C-424C-A416-3B5F75E6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F2A-4E54-4A82-AEB3-2E5413B9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C7F0-251C-49A9-9798-8EAE76B3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006A-165A-4AB4-8193-4383EDF3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ED04-A15E-40C3-B71A-8C1820F6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E1FA-8B42-4B2B-A20B-C5AEAC09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079D-380A-4E19-8C03-CD5CA681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DFE-8954-4CCD-898A-FD25CFB4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CFBC-6135-4B4E-AB04-A5CA885F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6126-5F77-4F49-8083-47BE0B7B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B98-82F8-4ACB-89AD-D8BE5A90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04B3-CBDA-452F-B5CE-F5398756C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9.xml"/><Relationship Id="rId3" Type="http://schemas.openxmlformats.org/officeDocument/2006/relationships/slide" Target="slide13.xml"/><Relationship Id="rId4" Type="http://schemas.openxmlformats.org/officeDocument/2006/relationships/slide" Target="slide5.xml"/><Relationship Id="rId5" Type="http://schemas.openxmlformats.org/officeDocument/2006/relationships/slide" Target="slide11.xml"/><Relationship Id="rId6" Type="http://schemas.openxmlformats.org/officeDocument/2006/relationships/slide" Target="slide14.xml"/><Relationship Id="rId7" Type="http://schemas.openxmlformats.org/officeDocument/2006/relationships/slide" Target="slide6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ORD ENDING GUESSING GAM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" cy="90504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0" y="0"/>
            <a:ext cx="8915400" cy="905040"/>
            <a:chOff x="0" y="0"/>
            <a:chExt cx="8915400" cy="9050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91440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182880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266688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6"/>
            <a:stretch/>
          </p:blipFill>
          <p:spPr>
            <a:xfrm>
              <a:off x="358128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>
              <a:off x="449568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8"/>
            <a:stretch/>
          </p:blipFill>
          <p:spPr>
            <a:xfrm>
              <a:off x="533412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9"/>
            <a:stretch/>
          </p:blipFill>
          <p:spPr>
            <a:xfrm>
              <a:off x="624852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0"/>
            <a:stretch/>
          </p:blipFill>
          <p:spPr>
            <a:xfrm>
              <a:off x="716292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11"/>
            <a:stretch/>
          </p:blipFill>
          <p:spPr>
            <a:xfrm>
              <a:off x="8001000" y="0"/>
              <a:ext cx="914400" cy="905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914400" y="914400"/>
            <a:ext cx="914400" cy="990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1828800" y="914400"/>
            <a:ext cx="923760" cy="914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2666880" y="91440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5"/>
          <a:stretch/>
        </p:blipFill>
        <p:spPr>
          <a:xfrm>
            <a:off x="3505320" y="91440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6"/>
          <a:stretch/>
        </p:blipFill>
        <p:spPr>
          <a:xfrm>
            <a:off x="4419720" y="91440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7"/>
          <a:stretch/>
        </p:blipFill>
        <p:spPr>
          <a:xfrm>
            <a:off x="5257800" y="91440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8"/>
          <a:stretch/>
        </p:blipFill>
        <p:spPr>
          <a:xfrm>
            <a:off x="6095880" y="91440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9"/>
          <a:stretch/>
        </p:blipFill>
        <p:spPr>
          <a:xfrm>
            <a:off x="7010280" y="91440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0"/>
          <a:stretch/>
        </p:blipFill>
        <p:spPr>
          <a:xfrm>
            <a:off x="7924680" y="914400"/>
            <a:ext cx="914400" cy="903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4648320"/>
            <a:ext cx="2743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E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animal with antl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04960" y="4571640"/>
            <a:ext cx="4267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345744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clothes are made of th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9880" y="457200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76720" y="1981080"/>
            <a:ext cx="2305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pposite of ha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9520" y="464796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2324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you pick something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76360" y="5333760"/>
            <a:ext cx="2361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48120" y="2120760"/>
            <a:ext cx="270504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thing you can float 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81280" y="548604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66880" y="1752480"/>
            <a:ext cx="35910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e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04960" y="548604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143160" y="200016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te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 category and an am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mouse to watch the answers fly in to check your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to the main page by clicking on the letter of the alphabet from each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D FAMILY GUESSING G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676520" y="1447920"/>
          <a:ext cx="61722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very small bu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9000" y="487656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276720" y="1676520"/>
            <a:ext cx="263520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can use this when you go camp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9520" y="5105520"/>
            <a:ext cx="1676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438280" y="1828800"/>
            <a:ext cx="37195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penn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240" y="5562720"/>
            <a:ext cx="1981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82292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048120" y="1905120"/>
            <a:ext cx="29048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e finger is curv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57240" y="5181120"/>
            <a:ext cx="1676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657600" y="1752480"/>
            <a:ext cx="14018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one grouchy might do th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80920" y="55627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2643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drink that comes from a cow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33920" y="5562720"/>
            <a:ext cx="1371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312912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4:42:40Z</dcterms:created>
  <dc:creator>Amityville UFSD</dc:creator>
  <dc:description/>
  <dc:language>en-US</dc:language>
  <cp:lastModifiedBy>Administrator</cp:lastModifiedBy>
  <dcterms:modified xsi:type="dcterms:W3CDTF">2009-02-10T18:53:53Z</dcterms:modified>
  <cp:revision>11</cp:revision>
  <dc:subject/>
  <dc:title>WORD FAMILY GUESSING GAME!</dc:title>
</cp:coreProperties>
</file>